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792-5A4B-47FC-9CB7-54E37A7F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7FA-E19D-476C-98C4-9D813F7E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DD2-43A2-477D-A13A-1FC84325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375-A562-4FB0-B7C6-E836D25D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0599-D17F-4E49-8723-13C15876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F40A-CCC9-4126-BAF9-62784217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89EF-9CA5-453E-9282-147AB04B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55B5-2266-4ADE-9D6B-C8CDDF72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8182-AB35-4EC2-91AD-51CC9BAA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00C9-EC09-4FF1-B489-DC320EDF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29D0-1F08-4419-A2B4-5CDC6EC3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C1F-9092-4D1F-AAA8-A05F3F94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B8E2-3AC5-49C4-8A02-25E53DB0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B191-7920-435E-9BB5-AFCE7ADD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0827-0FFD-4B08-B892-D775BD35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9FCF-72CC-45FE-A260-1E38250B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69A2-3BEA-4D1C-AD85-62E565F6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19C-FAD8-46B4-B763-4F55613C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163-2877-47DE-8480-A3BF8514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EDD-070E-43FC-A97E-6D140358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8F7-062E-4A73-B0AF-0E860D6D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79E-6173-4364-B026-7B7F73B4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610-DAF4-4C50-9D25-9BD8B3B2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A17-2893-49CC-8133-DF377DBA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EB72-2348-476C-9C6F-4DD7738D21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42F1-ADD5-403E-B893-801134CEA4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Finance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voiding Pitfalls of Cred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ad the fine print – especially before you sig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higher interest rates of credit cards – consider a loan for larger purchases inst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hoosy – don’t apply for more than you actually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s much as you can every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 an extra $10 will reduce your balance much faster than minimum pay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a bill at least 1 week before it’s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automatic payments for your monthly b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savings mode so you rarely need credit loans for purc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ssig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 the back side of your previous assignment, you need to hand-write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one minute, list all the strategies you can think of to responsibly use credit.  If you want, wait for a partner so you can be timed. If you need a stopwatch, go to </a:t>
            </a:r>
            <a:r>
              <a:rPr b="0" lang="en-US" sz="23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online-stopwatch.com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ease don’t write for more than a minute. Don’t use your notes. Just try to remember and think and write all at the same time.  That’s 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, you can turn in your pape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edit-related Record Keep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eep in your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rms of agree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 document that accompanies your loan application that defines your rights &amp; responsibilities of the borrower &amp; credi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eip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o you can compare charges when your bills ar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nthly statemen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t least a year; tax-related items, such as tax returns (for 7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st of credit card numb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hone #s so you can quickly notify it if card is lost/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ark Cloud of Deb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debt can take its toll on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ffects future ability to borrow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 can affect your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also is your spouse’s responsibility (leg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that deb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rid of plastic – stop adding to your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commitment to repay debt – after all, 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b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out exactly how much you ow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repayment plan you can stic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hods to reduce deb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ake additional money you have available &amp; pay off debt with smallest balance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same payment amount to the card or loan with next smallest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his process until your debts ar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ncentrate on paying the debt with the highest interes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thod will save you more in interest charges over time, but progress is harder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both methods work, be patient &amp; per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 of Independent Consumer Credit Counseling Agencies also will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nkruptc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kruptc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egal process to get out of debt when you can no longer make all your required payments.  2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pter 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you to erase most of your debt. To qualify, you must be unemployed or have very low income. You must undergo financial couns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pter 1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you to repay many of your debts over time, usually no more than 5 years. Court oversees your re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debts are erased by bankrupt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loans, child support, alimony, penalties &amp; fines for crimes com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 changed bankruptcy la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much harder to declare Chapter 7 bankrupt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ruptcy stays on credit report for 1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you can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urt your Credit Scor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late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cing checks (writing a check even when you don’t have the money to cover the 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 lot of credit cards and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a high balance on your credit cards and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credit cards 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unforeseen or unavoidable circumstances/misfortune (health care costs, for exam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sponsible borrowing &amp; defaulting on loans (not repay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Law &amp; Order of Deb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responsible for repaying your de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ders have legal action against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th in Lending Act requires lenders to tell you in writing the true interest rate &amp; finance charges before signing credit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can’t be misleading, ei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right to cancel within 3 days – assuming you return money borr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Debt Collection Practices 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you from harassment by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 collectors cann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abusive langu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ll @ unreasonable hours (before 8 am &amp; after 9 pm) or excessive # ti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reaten to notify your employer or frie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tempt to collect more than you ow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d you misleading letters that appear to be from gov’t agency or court of la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56:  Exercise 4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ete the priorities of debt.  Don’t turn in, but will have a check on Thursday for participation poi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al Assignmen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new blank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header with title: My Plan fo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ssignment 4-1 on page 5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your credit history &amp; reflect. Type up a reflection paragraph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please double space – format, paragraph, double-space line spac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use a bulleted list to identify strategies to manage your credit.  Save, print, turn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at does your credit score reall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lot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ith bad credit  can still get approved – some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pay higher interest r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n a 1% higher in interest rate can have a huge effect on your budgeted fixed expen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our Rights When your Credit Report is Wro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requires credit bureaus provide info regarding your credit history correctly &amp; completely (&amp; confidentiall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right to see everything in your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most of the time, who reported i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ly review your credit report to ensure its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&amp; to check for fraudulent use of identity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 find inaccuracies: don’t pan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credit reporting ag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k representative to investigate inf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law, agency must investigate questionable item &amp; correct/delete anything that’s incorr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bureaus must delete unfavorable info that is more than 7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ruptcy info must be removed after 1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etting your piece of the Credit P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to get started with cred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an adult to co-sign a credit card application or car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he place where you have savings/checking account for a credit car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for a store credit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for a secured credit card (one that only has money pre-deposited into account for you to use) Similar to a debit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nting a place with friends, make sure at least one of the bills is in your name &amp; pay it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Carmen’s loan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iece of paper (you may type &amp; print it ou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a reason why you would or would not approve Carmen’s lo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what type of terms would you give? (length of loan with what type of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ustify why you chose to do th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to the Red Tray by printer. Be sure your name is in a header.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n 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credit is crucial to achieving your financia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way people mismanage credit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ver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easier to get into debt that to get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 careful of your budget &amp; your expenses/inc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0-20-10 Ru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of income should go to living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income should go to investments/s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income should go to paying off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7:14:52Z</dcterms:created>
  <dc:creator>LDSD</dc:creator>
  <dc:description/>
  <dc:language>en-US</dc:language>
  <cp:lastModifiedBy>LDSD</cp:lastModifiedBy>
  <dcterms:modified xsi:type="dcterms:W3CDTF">2009-12-08T08:07:18Z</dcterms:modified>
  <cp:revision>14</cp:revision>
  <dc:subject/>
  <dc:title>Personal Finance Notes</dc:title>
</cp:coreProperties>
</file>